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BC33-7472-44BC-94EB-7FEEEA7EC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9533-8091-4764-AC1E-5E4973CEF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54D1-C286-4520-9550-ED50EC64C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73C7-1C35-458D-A822-744E5DFFC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1DC17-3099-4923-BF0A-3B407C11F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1D5F7-3BE0-4E9E-8021-C0B2C34BF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E9D1B-865F-4D7A-A5A8-91EB4DD92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BB757-9F77-4764-BD4B-E26BF04CA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021BB-0D58-4E86-94E7-5804406F3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8D4B5-DE49-4E0E-B3FD-4D41CF31D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ECE60-1BF0-467B-B60B-2341B0417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948B7-D467-4C3E-B536-FA045AFB8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5F792-9FD2-42D9-B55D-9FF534876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969F-6E70-4039-A821-C3CBEF2C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5054C-919F-425C-8AFE-AA09BF46E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4BBB-52C4-448A-9481-0D625AED9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A53D-A26D-4E80-AEC0-00B44C62A06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7F53-7DB4-4B28-927C-FCEFE1D5A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dwheeler.com/essays/filenames-in-shell.html" TargetMode="External"/><Relationship Id="rId2" Type="http://schemas.openxmlformats.org/officeDocument/2006/relationships/hyperlink" Target="http://www.dwheeler.com/essays/fixing-unix-linux-filenames.html"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WE 681 / ISA 681</a:t>
            </a:r>
            <a:br>
              <a:rPr sz="4000"/>
            </a:br>
            <a:r>
              <a:rPr b="0" lang="en-US" sz="4000" spc="-1" strike="noStrike">
                <a:solidFill>
                  <a:srgbClr val="000000"/>
                </a:solidFill>
                <a:latin typeface="Calibri"/>
              </a:rPr>
              <a:t>Secure Software Design &amp; Programming:</a:t>
            </a:r>
            <a:br>
              <a:rPr sz="4000"/>
            </a:br>
            <a:r>
              <a:rPr b="0" lang="en-US" sz="4000" spc="-1" strike="noStrike">
                <a:solidFill>
                  <a:srgbClr val="000000"/>
                </a:solidFill>
                <a:latin typeface="Calibri"/>
              </a:rPr>
              <a:t>Lecture 5: Calling Out to Other Component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David A. Wheel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4-09-2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Query: Intent &amp; Actual</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nt of programmer is to create:</a:t>
            </a:r>
            <a:endParaRPr b="0" lang="en-US" sz="32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 from authors where lastname = 'user_input'</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agine attacker provides, as input value:</a:t>
            </a:r>
            <a:endParaRPr b="0" lang="en-US" sz="32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me' OR 'a'='a</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ing query is:</a:t>
            </a:r>
            <a:endParaRPr b="0" lang="en-US" sz="32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 from authors where lastname = 'name' OR 'a'='a'</a:t>
            </a:r>
            <a:endParaRPr b="0" lang="en-US" sz="2400" spc="-1" strike="noStrike">
              <a:solidFill>
                <a:srgbClr val="000000"/>
              </a:solidFill>
              <a:latin typeface="Calibri"/>
            </a:endParaRPr>
          </a:p>
          <a:p>
            <a:pPr lvl="1" marL="443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t part always true, so whole table returned</a:t>
            </a:r>
            <a:endParaRPr b="0" lang="en-US" sz="3200" spc="-1" strike="noStrike">
              <a:solidFill>
                <a:srgbClr val="000000"/>
              </a:solidFill>
              <a:latin typeface="Calibri"/>
            </a:endParaRPr>
          </a:p>
          <a:p>
            <a:pPr lvl="1" marL="443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quote is a SQL metacharacter</a:t>
            </a:r>
            <a:endParaRPr b="0" lang="en-US" sz="32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EC8E-0CBC-47F3-B532-1C6F142ABD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Injectio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QL injection = attack whe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ttacker inserts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will eventually be supplied to a SQL interpre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way where that data will be misinterpreted (e.g. as a metacharact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input example, name' OR 'a'='a, is an example of a SQL injection attack</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C42C-6BC4-4418-8024-3B47DEA807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injection: Other common attack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ssive variation in SQL interpret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QL “standard” is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attacks vary depending on interpreter</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on sequences in SQL injection attack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double quote (as already se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 as command separator</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ert whole new commands after separator</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 as comment toke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y “ignore material afterwards” &amp; foil limiting text</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in, don’t try to create a blacklist</a:t>
            </a:r>
            <a:endParaRPr b="0" lang="en-US" sz="30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B7F1-96EA-4102-85FD-210576DA76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 for SQL Injection: Prepared stateme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repared statement” to identify placehold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existing library then escapes it properl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dvantag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does the escaping for you – simpler, more likely to get righ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ds to produce easier-to-maintain cod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ds to execute fas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ecially important for SQL – different SQL engines can have different rules</a:t>
            </a:r>
            <a:endParaRPr b="0" lang="en-US" sz="28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E2AF-B324-49EF-8147-1C2F8EE3A9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repareStatement” method</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blic interface “Connection” represents a connection (session) with a specific databas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QL statements executed &amp; results are returned within context of a connection</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method  PreparedStatement prepareStatement(String sql) throws SQLException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s a PreparedStatement object for sending parameterized SQL statements to the databa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sql” is an SQL statement that may contain one or more '?' IN parameter placeholders</a:t>
            </a:r>
            <a:endParaRPr b="0" lang="en-US" sz="26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807E-9FC5-4775-B5BA-8188D14765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pared statements example (Java)</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ng QueryString =</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elect * from authors where lastname = ?";</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edStatement pstmt =</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nection.prepareStatement(QueryString);</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Set first param - library escapes it</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tmt.setString(1, search_lastname);</a:t>
            </a:r>
            <a:endParaRPr b="0" lang="en-US" sz="3200" spc="-1" strike="noStrike">
              <a:solidFill>
                <a:srgbClr val="000000"/>
              </a:solidFill>
              <a:latin typeface="Calibri"/>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et results = pstmt.execute( );</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6B3C-8F70-4910-A07D-7254703188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ning: “prepareStatement” can be misused, too!!</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ed statements only work if </a:t>
            </a:r>
            <a:r>
              <a:rPr b="0" lang="en-US" sz="2800" spc="-1" strike="noStrike" u="sng">
                <a:solidFill>
                  <a:srgbClr val="000000"/>
                </a:solidFill>
                <a:uFillTx/>
                <a:latin typeface="Calibri"/>
              </a:rPr>
              <a:t>all input influenced by untrusted users</a:t>
            </a:r>
            <a:r>
              <a:rPr b="0" lang="en-US" sz="2800" spc="-1" strike="noStrike">
                <a:solidFill>
                  <a:srgbClr val="000000"/>
                </a:solidFill>
                <a:latin typeface="Calibri"/>
              </a:rPr>
              <a:t> is </a:t>
            </a:r>
            <a:r>
              <a:rPr b="0" i="1" lang="en-US" sz="2800" spc="-1" strike="noStrike">
                <a:solidFill>
                  <a:srgbClr val="000000"/>
                </a:solidFill>
                <a:latin typeface="Calibri"/>
              </a:rPr>
              <a:t>actually</a:t>
            </a:r>
            <a:r>
              <a:rPr b="0" lang="en-US" sz="2800" spc="-1" strike="noStrike">
                <a:solidFill>
                  <a:srgbClr val="000000"/>
                </a:solidFill>
                <a:latin typeface="Calibri"/>
              </a:rPr>
              <a:t> prepar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substituted as “?” in query string &amp; setStr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on’t</a:t>
            </a:r>
            <a:r>
              <a:rPr b="0" lang="en-US" sz="2800" spc="-1" strike="noStrike">
                <a:solidFill>
                  <a:srgbClr val="000000"/>
                </a:solidFill>
                <a:latin typeface="Calibri"/>
              </a:rPr>
              <a:t> do this (where search_lastname is untrusted):</a:t>
            </a: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ing QueryString = "select * from authors where lastname = ' "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arch_lastname + " '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paredStatement pstmt = connection.prepareStatement(QueryString);</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et results = pstmt.execute( );</a:t>
            </a:r>
            <a:endParaRPr b="0" lang="en-US" sz="20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D242-3730-4DFB-BFDA-E008473450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Rectangle 4"/>
          <p:cNvSpPr/>
          <p:nvPr/>
        </p:nvSpPr>
        <p:spPr>
          <a:xfrm>
            <a:off x="685800" y="5334120"/>
            <a:ext cx="8001000" cy="10666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 using prepared statements, so nothing can go wro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go wrong … can go wro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SQL injection countermeasur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riting your own escape code</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careful – identify characters that must not or don’t need escaping (e.g., alphanumerics) &amp; escape everything else (</a:t>
            </a:r>
            <a:r>
              <a:rPr b="0" i="1" lang="en-US" sz="2000" spc="-1" strike="noStrike">
                <a:solidFill>
                  <a:srgbClr val="000000"/>
                </a:solidFill>
                <a:latin typeface="Calibri"/>
              </a:rPr>
              <a:t>whitelist</a:t>
            </a:r>
            <a:r>
              <a:rPr b="0" lang="en-US" sz="2000" spc="-1" strike="noStrike">
                <a:solidFill>
                  <a:srgbClr val="000000"/>
                </a:solidFill>
                <a:latin typeface="Calibri"/>
              </a:rPr>
              <a:t>)</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les vary depending on SQL engine &amp; its version</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do this with SQL – use libraries designed for purpose!</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red procedures – can help prevent SQL injection attacks</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limiting types of statements that can be passed to their parameters</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attackers can often work around those limits</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prevent some attacks, but by themselves they don’t counter SQL injection (you still have to escape, etc.)</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 metacharacters from getting in as inpu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can, do it.  “Only ASCII alphanumerics” is okay</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his is not always practical</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n when you can, use prepared statements for defense-in-depth</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lso – future modifications may need to lift input restrictions</a:t>
            </a:r>
            <a:endParaRPr b="0" lang="en-US" sz="17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8DC3-526A-4F1A-8C12-8EC3C7A17A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just SQL</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arly  all database systems (SQL or not) support languag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least for queri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need to prevent metacharacter misinterpret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prepared statement library if you ca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ne available, consider creating o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least create escaping library - easily check &amp; reuse</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characters also show up in the command shell…</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C1C2-453A-4DD5-9C9A-CD5D087D59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 shell</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ost systems have at least one command shell</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eful for quickly combining programs, query, debugging, etc.</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ix-like systems: e.g., /bin/sh, bash, dash, ksh, csh</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ndows: e.g., cmd.exe, PowerShell</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mmand shell idea originally from MULTICS (1960s)</a:t>
            </a:r>
            <a:endParaRPr b="0" lang="en-US" sz="15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Many</a:t>
            </a:r>
            <a:r>
              <a:rPr b="0" lang="en-US" sz="1900" spc="-1" strike="noStrike">
                <a:solidFill>
                  <a:srgbClr val="000000"/>
                </a:solidFill>
                <a:latin typeface="Calibri"/>
              </a:rPr>
              <a:t> metacharacters, and shell can call other command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seful… but easy to make mistakes</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nly use when you really need its capability &amp; be cautious doing so</a:t>
            </a:r>
            <a:endParaRPr b="0" lang="en-US" sz="15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veral library calls may call command shell</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ystem(3), popen(3); sometimes execlp(3) and execvp(3)</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erl &amp; shell backtick (`); Python os.system()</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va java.lang.Runtime.getRuntime().exec() </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C, execve(3) does not invoke shell</a:t>
            </a:r>
            <a:endParaRPr b="0" lang="en-US" sz="1500" spc="-1" strike="noStrike">
              <a:solidFill>
                <a:srgbClr val="000000"/>
              </a:solidFill>
              <a:latin typeface="Calibri"/>
            </a:endParaRPr>
          </a:p>
          <a:p>
            <a:pPr lvl="2" marL="1143000" indent="-228600">
              <a:lnSpc>
                <a:spcPct val="9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se execve(3), not system(3), if you don’t need full system(3) functionality</a:t>
            </a:r>
            <a:endParaRPr b="0" lang="en-US" sz="13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ny programs have mechanisms to invoke commands too</a:t>
            </a:r>
            <a:endParaRPr b="0" lang="en-US" sz="19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il, vi, vim, emacs, ….</a:t>
            </a:r>
            <a:endParaRPr b="0" lang="en-US" sz="15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C256-45B1-4C6B-A9A5-F850FF8388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metacharacters &amp; issues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Q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and/she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na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s</a:t>
            </a:r>
            <a:endParaRPr b="0" lang="en-US" sz="28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6F74-D316-44F2-BDC7-34689199C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x-like shell metacharacter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ell metacharacter list is long; one list is:</a:t>
            </a:r>
            <a:endParaRPr b="0" lang="en-US" sz="2700" spc="-1" strike="noStrike">
              <a:solidFill>
                <a:srgbClr val="000000"/>
              </a:solidFill>
              <a:latin typeface="Calibri"/>
            </a:endParaRPr>
          </a:p>
          <a:p>
            <a:pPr lvl="1" marL="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p; ; ` ' \ " | * ? ~ &lt; &gt; ^ ( ) [ ] { } $ \n \r</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et that list is known to be wrong, e.g.:</a:t>
            </a:r>
            <a:endParaRPr b="0" lang="en-US" sz="27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ce &amp; tab: normal separators</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is comment (all rest on line ignored)</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means “not” in some contexts &amp; history in others</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 on parameter may be considered option</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itelist – escape non-alphanumeric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ther commands have own character set and may need to escape through shell too</a:t>
            </a:r>
            <a:endParaRPr b="0" lang="en-US" sz="27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cape in right order, so that it’s actually escape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BF07-3F87-4669-A14E-5280FBE117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ATE 1596 (1) – Unix-like</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SAMATE 1596 - CWE-077: Failure to Sanitize Data into a Control Plane (Command Injection) at line 44,45</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Description: Tainted input allows command execution.</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Keywords: Port Java Size0 Complex0 Taint Unsaf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validParam: "user=bogus;ls -l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ValidParam: user=roo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Copyright 2005 Fortify Softwar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ermission is hereby granted, without written agreement or royalty fee, to</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use, copy, modify, and distribute this software and its documentation for</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any purpose, provided that the above copyright notice and the following</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three paragraphs appear in all copies of this softwar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 NO EVENT SHALL FORTIFY SOFTWARE BE LIABLE TO ANY PARTY FOR DIREC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DIRECT, SPECIAL, INCIDENTAL, OR CONSEQUENTIAL DAMAGES ARISING OUT OF TH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USE OF THIS SOFTWARE AND ITS DOCUMENTATION, EVEN IF FORTIFY SOFTWARE HA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BEEN ADVISED OF THE POSSIBILITY OF SUCH DAMANG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FORTIFY SOFTWARE SPECIFICALLY DISCLAIMS ANY WARRANTIES INCLUDING, BUT NO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LIMITED TO THE IMPLIED WARRANTIES OF MERCHANTABILITY, FITNESS FOR 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ARTICULAR PURPOSE, AND NON-INFRINGEMENT.</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THE SOFTWARE IS PROVIDED ON AN "AS-IS" BASIS AND FORTIFY SOFTWARE HAS NO</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OBLIGATION TO PROVIDE MAINTENANCE, SUPPORT, UPDATES, ENHANCEMENTS, OR</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MODIFICATIO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a:t>
            </a:r>
            <a:endParaRPr b="0" lang="en-US" sz="13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FC32-046E-4D79-BFCC-42BC1860A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ATE 1596 (2) – Unix-lik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lang.Runtim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i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x.servle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ort javax.servlet.http.*;</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ublic class Proc1_bad extends HttpServle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ublic void doGet(HttpServletRequest req, HttpServletResponse r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rows ServletException, IOExcept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s.setContentType("text/html");</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rvletOutputStream out = res.getOutputStream();</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ut.println("&lt;HTML&gt;&lt;HEAD&gt;&lt;TITLE&gt;Test&lt;/TITLE&gt;&lt;/HEAD&gt;&lt;BODY&gt;&lt;blockquote&gt;&lt;pre&gt;");</a:t>
            </a:r>
            <a:endParaRPr b="0" lang="en-US" sz="20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110E-4B8A-4FE6-8CB6-7F3ECC992A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ATE 1596 (3) – Unix-like</a:t>
            </a:r>
            <a:endParaRPr b="0" lang="en-US" sz="4400" spc="-1" strike="noStrike">
              <a:solidFill>
                <a:srgbClr val="000000"/>
              </a:solidFill>
              <a:latin typeface="Calibri"/>
            </a:endParaRPr>
          </a:p>
        </p:txBody>
      </p:sp>
      <p:sp>
        <p:nvSpPr>
          <p:cNvPr id="118" name=""/>
          <p:cNvSpPr txBox="1"/>
          <p:nvPr/>
        </p:nvSpPr>
        <p:spPr>
          <a:xfrm>
            <a:off x="457200" y="1295280"/>
            <a:ext cx="8229600" cy="4525920"/>
          </a:xfrm>
          <a:prstGeom prst="rect">
            <a:avLst/>
          </a:prstGeom>
          <a:noFill/>
          <a:ln w="0">
            <a:noFill/>
          </a:ln>
        </p:spPr>
        <p:txBody>
          <a:bodyPr anchor="t">
            <a:normAutofit fontScale="99000"/>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tring user = req.getParameter("us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f(user != nul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r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tring[] args = { "/bin/sh", "-c", "finger " + user };   </a:t>
            </a:r>
            <a:r>
              <a:rPr b="1" lang="en-US" sz="1400" spc="-1" strike="noStrike">
                <a:solidFill>
                  <a:srgbClr val="000000"/>
                </a:solidFill>
                <a:latin typeface="Calibri"/>
              </a:rPr>
              <a:t>// Uh oh!!!!</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Process p = Runtime.getRuntime().exec(args);  </a:t>
            </a:r>
            <a:r>
              <a:rPr b="1" lang="en-US" sz="1400" spc="-1" strike="noStrike">
                <a:solidFill>
                  <a:srgbClr val="000000"/>
                </a:solidFill>
                <a:latin typeface="Calibri"/>
              </a:rPr>
              <a:t>// Disaster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ufferedReader fingdata = new BufferedReader(ne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putStreamReader(p.getInputStrea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tring lin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hile((line = fingdata.readLine()) != null)</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ut.println(lin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p.waitF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catch(Exception 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row new ServletException(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else {  out.println("specify a us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ut.println("&lt;/pre&gt;&lt;/blockquote&gt;&lt;/BODY&gt;&lt;/HTML&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ut.clo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2D7A-B11F-41DB-BDE8-7A9FE1B6A8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bad code on Window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ing btype = request.getParameter("backuptyp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ing cmd = new String("cmd.exe /K \"c:\\util\\rmanDB.bat "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type + “&amp;&amp;c:\\utl\\cleanup.b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time.getRuntime().exec(cm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154C-5FED-4D4F-A43F-076360E95C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Rectangle 4"/>
          <p:cNvSpPr/>
          <p:nvPr/>
        </p:nvSpPr>
        <p:spPr>
          <a:xfrm>
            <a:off x="457200" y="3886200"/>
            <a:ext cx="8001000" cy="10666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ain, data from untrusted user is used, unescaped, as part of larger command – disaster.</a:t>
            </a:r>
            <a:endParaRPr b="0" lang="en-US" sz="2400" spc="-1" strike="noStrike">
              <a:solidFill>
                <a:srgbClr val="000000"/>
              </a:solidFill>
              <a:latin typeface="Arial"/>
            </a:endParaRPr>
          </a:p>
        </p:txBody>
      </p:sp>
      <p:sp>
        <p:nvSpPr>
          <p:cNvPr id="124" name="TextBox 5"/>
          <p:cNvSpPr/>
          <p:nvPr/>
        </p:nvSpPr>
        <p:spPr>
          <a:xfrm>
            <a:off x="498960" y="5867280"/>
            <a:ext cx="800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ecure Programming with Static Analysis”, Chess &amp; West, page 1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ng data:</a:t>
            </a:r>
            <a:br>
              <a:rPr sz="4400"/>
            </a:br>
            <a:r>
              <a:rPr b="0" lang="en-US" sz="4400" spc="-1" strike="noStrike">
                <a:solidFill>
                  <a:srgbClr val="000000"/>
                </a:solidFill>
                <a:latin typeface="Calibri"/>
              </a:rPr>
              <a:t>Databases &amp; simple files</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abases (e.g., SQL) provide many useful function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rbitrary que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 storage of field dat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ut using them means that your program depends on potentially-complex DBM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ed to set up / config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have its own vulnerabilities,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have to include lower-level kernel anyw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simple files work for storage (e.g., with filenames as key), may want to use them for storag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an</a:t>
            </a:r>
            <a:r>
              <a:rPr b="0" lang="en-US" sz="2200" spc="-1" strike="noStrike">
                <a:solidFill>
                  <a:srgbClr val="000000"/>
                </a:solidFill>
                <a:latin typeface="Calibri"/>
              </a:rPr>
              <a:t> be faster, simpler. Directory structures can simplify mu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not if you start rewriting a DBM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decision (DBMS vs. files), but either involves calling out</a:t>
            </a:r>
            <a:endParaRPr b="0" lang="en-US" sz="22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DDEC-490C-4C12-B126-15E36939D4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data type passed elsewhere: Pathname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name = how to find file system objec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x-like: Sequence of 1+ filenames separated by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names often partly controlled by untrusted use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useful to use file/directory names as a key to identify relevant data, can lead to untrusted user controlling filenam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management of VM/shared system – untrusted monitoree controls filenam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ense-in-depth: Counter attacker who gets in part wa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ed to protect… so need to know about filename issu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vious case: Don’t allow redirection outside di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if whitelist allowed “.”, “/”, and maybe “\” – probl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rusted_root_path + username” might go somewhere unexpected if username is “../../../mysecre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lways, use limited whitelist for info used to create filenames</a:t>
            </a:r>
            <a:endParaRPr b="0" lang="en-US" sz="20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6168-70F3-4D93-856B-AAE6907540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dows Pathnames:</a:t>
            </a:r>
            <a:br>
              <a:rPr sz="4400"/>
            </a:br>
            <a:r>
              <a:rPr b="0" lang="en-US" sz="4400" spc="-1" strike="noStrike">
                <a:solidFill>
                  <a:srgbClr val="000000"/>
                </a:solidFill>
                <a:latin typeface="Calibri"/>
              </a:rPr>
              <a:t>Difficult to make secure</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ows pathname interpretations vary depending o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rsion of Window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I used (some use CreateFile, support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i="1" lang="en-US" sz="2000" spc="-1" strike="noStrike">
                <a:solidFill>
                  <a:srgbClr val="000000"/>
                </a:solidFill>
                <a:latin typeface="Calibri"/>
              </a:rPr>
              <a:t>letter</a:t>
            </a:r>
            <a:r>
              <a:rPr b="0" lang="en-US" sz="2000" spc="-1" strike="noStrike">
                <a:solidFill>
                  <a:srgbClr val="000000"/>
                </a:solidFill>
                <a:latin typeface="Calibri"/>
              </a:rPr>
              <a:t>:…” and “\\</a:t>
            </a:r>
            <a:r>
              <a:rPr b="0" i="1" lang="en-US" sz="2000" spc="-1" strike="noStrike">
                <a:solidFill>
                  <a:srgbClr val="000000"/>
                </a:solidFill>
                <a:latin typeface="Calibri"/>
              </a:rPr>
              <a:t>server</a:t>
            </a:r>
            <a:r>
              <a:rPr b="0" lang="en-US" sz="2000" spc="-1" strike="noStrike">
                <a:solidFill>
                  <a:srgbClr val="000000"/>
                </a:solidFill>
                <a:latin typeface="Calibri"/>
              </a:rPr>
              <a:t>\</a:t>
            </a:r>
            <a:r>
              <a:rPr b="0" i="1" lang="en-US" sz="2000" spc="-1" strike="noStrike">
                <a:solidFill>
                  <a:srgbClr val="000000"/>
                </a:solidFill>
                <a:latin typeface="Calibri"/>
              </a:rPr>
              <a:t>share</a:t>
            </a:r>
            <a:r>
              <a:rPr b="0" lang="en-US" sz="2000" spc="-1" strike="noStrike">
                <a:solidFill>
                  <a:srgbClr val="000000"/>
                </a:solidFill>
                <a:latin typeface="Calibri"/>
              </a:rPr>
              <a:t>...” have special mean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sty issue: reserved names in fil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t-in reserved device names: CON, PRN, AUX, NUL, COM1, COM2, COM3, COM4, COM5, COM6, COM7, COM8, COM9, LPT1, LPT2, LPT3, LPT4, LPT5, LPT6, LPT7, LPT8, and LPT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worse, drivers can create more reserved name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oid reserved names with/without extension.. if attacker can trick into reading/writing (e.g., com1.txt), may (depending on API) cause r/w to </a:t>
            </a:r>
            <a:r>
              <a:rPr b="0" i="1" lang="en-US" sz="1800" spc="-1" strike="noStrike">
                <a:solidFill>
                  <a:srgbClr val="000000"/>
                </a:solidFill>
                <a:latin typeface="Calibri"/>
              </a:rPr>
              <a:t>devi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case, </a:t>
            </a:r>
            <a:r>
              <a:rPr b="0" i="1" lang="en-US" sz="1800" spc="-1" strike="noStrike">
                <a:solidFill>
                  <a:srgbClr val="000000"/>
                </a:solidFill>
                <a:latin typeface="Calibri"/>
              </a:rPr>
              <a:t>even simple alphanumerics</a:t>
            </a:r>
            <a:r>
              <a:rPr b="0" lang="en-US" sz="1800" spc="-1" strike="noStrike">
                <a:solidFill>
                  <a:srgbClr val="000000"/>
                </a:solidFill>
                <a:latin typeface="Calibri"/>
              </a:rPr>
              <a:t> can cause disaster (rare situatio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ory separator \ and / (\ widely used for escap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end a file or directory name with space or perio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lying file system may support, but Windows shell &amp; user interface don’t</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info: http://msdn.microsoft.com/en-us/library/aa365247.aspx</a:t>
            </a:r>
            <a:endParaRPr b="0" lang="en-US" sz="20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B9C7-80C8-4E98-B05A-DFF6376A18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x-like filename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ix-like systems in practice allow almost any sequence of bytes as a pathnam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parated by “/”, terminated by \0</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se sensitive (normall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yes, they allow problematic filenames with:</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characters (including tab, newline, escap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n-characters (e.g., non-UTF-8)</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ding “-” (option marke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atic filenames can cause trouble lat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additional problem happen when using shel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lename problems </a:t>
            </a:r>
            <a:r>
              <a:rPr b="0" i="1" lang="en-US" sz="2200" spc="-1" strike="noStrike" u="sng">
                <a:solidFill>
                  <a:srgbClr val="000000"/>
                </a:solidFill>
                <a:uFillTx/>
                <a:latin typeface="Calibri"/>
              </a:rPr>
              <a:t>not limited to shell</a:t>
            </a:r>
            <a:endParaRPr b="0" lang="en-US" sz="22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135C-6E94-4A95-8CAC-A23B0F9448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POSIX shell specific issue: Variable quoting</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IX (Bourne) shell references need to be quoted if variable can include input separator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arators are space, tab, newline by defaul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this is usually wrong:</a:t>
            </a:r>
            <a:endParaRPr b="0" lang="en-US" sz="22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at $filename</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filename might include space, tab, or newline, it will be split into multiple filenam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if you use a Bourne shell to process filenam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quote variable references unless </a:t>
            </a:r>
            <a:r>
              <a:rPr b="0" i="1" lang="en-US" sz="2000" spc="-1" strike="noStrike">
                <a:solidFill>
                  <a:srgbClr val="000000"/>
                </a:solidFill>
                <a:latin typeface="Calibri"/>
              </a:rPr>
              <a:t>known</a:t>
            </a:r>
            <a:r>
              <a:rPr b="0" lang="en-US" sz="2000" spc="-1" strike="noStrike">
                <a:solidFill>
                  <a:srgbClr val="000000"/>
                </a:solidFill>
                <a:latin typeface="Calibri"/>
              </a:rPr>
              <a:t> the variable </a:t>
            </a:r>
            <a:r>
              <a:rPr b="0" i="1" lang="en-US" sz="2000" spc="-1" strike="noStrike">
                <a:solidFill>
                  <a:srgbClr val="000000"/>
                </a:solidFill>
                <a:latin typeface="Calibri"/>
              </a:rPr>
              <a:t>cannot</a:t>
            </a:r>
            <a:r>
              <a:rPr b="0" lang="en-US" sz="2000" spc="-1" strike="noStrike">
                <a:solidFill>
                  <a:srgbClr val="000000"/>
                </a:solidFill>
                <a:latin typeface="Calibri"/>
              </a:rPr>
              <a:t> have the space, tab, or newline characters:</a:t>
            </a: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at "$filename"</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IFS to just newline &amp; tab (no space) early on, e.g.:</a:t>
            </a: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IFS="$(printf '\n\t')"</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both if can (defense-in-depth); IFS change may require other changes</a:t>
            </a:r>
            <a:endParaRPr b="0" lang="en-US" sz="2000" spc="-1" strike="noStrike">
              <a:solidFill>
                <a:srgbClr val="000000"/>
              </a:solidFill>
              <a:latin typeface="Calibri"/>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EFCC-2E72-4AA7-B739-3E30351634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Man (or Program) is an Island</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actically no program is truly self-contain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arly all programs depend on/call out to other programs for resourc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ng system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ftware Libra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 serv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te services (DNS, web servers, tile servers, 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times dependency is not obviou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itive dependency (A depends on B depends on C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ds to dependencies on many components/hidden infrastruct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dynamic libraries, kernel modules, language run-times, C run-time, remote webserver operating systems, etc.</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B1E0-C6B1-492F-9580-BEC41EEA86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wrongly (one-directory)</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directory example 1:</a:t>
            </a:r>
            <a:endParaRPr b="0" lang="en-US" sz="3000" spc="-1" strike="noStrike">
              <a:solidFill>
                <a:srgbClr val="000000"/>
              </a:solidFill>
              <a:latin typeface="Calibri"/>
            </a:endParaRPr>
          </a:p>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at * &gt; ../collection  # WRONG</a:t>
            </a:r>
            <a:endParaRPr b="0" lang="en-US" sz="22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ils if a filename begins with “-” (e.g., “-n”)</a:t>
            </a:r>
            <a:endParaRPr b="0" lang="en-US" sz="26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an happen in </a:t>
            </a:r>
            <a:r>
              <a:rPr b="0" i="1" lang="en-US" sz="2600" spc="-1" strike="noStrike">
                <a:solidFill>
                  <a:srgbClr val="000000"/>
                </a:solidFill>
                <a:latin typeface="Calibri"/>
              </a:rPr>
              <a:t>any</a:t>
            </a:r>
            <a:r>
              <a:rPr b="0" lang="en-US" sz="2600" spc="-1" strike="noStrike">
                <a:solidFill>
                  <a:srgbClr val="000000"/>
                </a:solidFill>
                <a:latin typeface="Calibri"/>
              </a:rPr>
              <a:t> languag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directory example 2:</a:t>
            </a:r>
            <a:endParaRPr b="0" lang="en-US" sz="30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for file in * ; do  # WRONG</a:t>
            </a: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cat "$file" &gt;&gt; ../collection</a:t>
            </a: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ne</a:t>
            </a:r>
            <a:endParaRPr b="0" lang="en-US" sz="19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so fails if filename begins with “-”</a:t>
            </a:r>
            <a:endParaRPr b="0" lang="en-US" sz="2600" spc="-1" strike="noStrike">
              <a:solidFill>
                <a:srgbClr val="000000"/>
              </a:solidFill>
              <a:latin typeface="Calibri"/>
            </a:endParaRPr>
          </a:p>
          <a:p>
            <a:pPr lvl="1" marL="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ils if no files (will loop on file named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ily a problem in shell (glob libraries simplify this)</a:t>
            </a:r>
            <a:endParaRPr b="0" lang="en-US" sz="2200" spc="-1" strike="noStrike">
              <a:solidFill>
                <a:srgbClr val="000000"/>
              </a:solidFill>
              <a:latin typeface="Calibri"/>
            </a:endParaRPr>
          </a:p>
        </p:txBody>
      </p:sp>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6510-110F-47FB-8421-5E80627B47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wrongly (multiple-directories)</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IX “find” is usual mechanism for walking directories</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matically inserts directory name in front</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ding “-” can’t happen if directory name doesn’t start with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Easy” ways often fail with space, newline, tab (often split up)</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produced filename contains “*” etc., then when $(…) returns, shell will try to expand using that (“set –f” disables this)</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ory example 1:</a:t>
            </a:r>
            <a:endParaRPr b="0" lang="en-US" sz="2000" spc="-1" strike="noStrike">
              <a:solidFill>
                <a:srgbClr val="000000"/>
              </a:solidFill>
              <a:latin typeface="Calibri"/>
            </a:endParaRPr>
          </a:p>
          <a:p>
            <a:pPr lvl="1" marL="735480" indent="-28296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cat $(find . -type f) &gt; ../collection  # WRONG</a:t>
            </a:r>
            <a:endParaRPr b="0" lang="en-US" sz="13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ils if file contains space, tab, newline</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ory example 2:</a:t>
            </a:r>
            <a:endParaRPr b="0" lang="en-US" sz="20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for file in $(find . -type f) ; do # WRONG</a:t>
            </a:r>
            <a:br>
              <a:rPr sz="1300"/>
            </a:br>
            <a:r>
              <a:rPr b="0" lang="en-US" sz="1300" spc="-1" strike="noStrike">
                <a:solidFill>
                  <a:srgbClr val="000000"/>
                </a:solidFill>
                <a:latin typeface="Courier New"/>
                <a:ea typeface="Courier New"/>
              </a:rPr>
              <a:t>cat "$file" done ) &gt; ../collection</a:t>
            </a:r>
            <a:endParaRPr b="0" lang="en-US" sz="13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 problem</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ory example 3:</a:t>
            </a:r>
            <a:endParaRPr b="0" lang="en-US" sz="20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for file in $(find . -type f) ; do  # WRONG</a:t>
            </a:r>
            <a:endParaRPr b="0" lang="en-US" sz="13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cat "$file"</a:t>
            </a:r>
            <a:endParaRPr b="0" lang="en-US" sz="13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done ) &gt; ../collection</a:t>
            </a:r>
            <a:endParaRPr b="0" lang="en-US" sz="13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 problem</a:t>
            </a:r>
            <a:endParaRPr b="0" lang="en-US" sz="18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82CC-C549-4269-A777-94FC3C9199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wrongly (multiple-directorie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directory example 4:</a:t>
            </a:r>
            <a:endParaRPr b="0" lang="en-US" sz="27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d . -type f | xargs cat ) &gt; ../collection # WRONG</a:t>
            </a:r>
            <a:endParaRPr b="0" lang="en-US" sz="18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ong. By default, xargs’ input is parsed, so space characters (as well as newlines) separate arguments, and the backslash, apostrophe, double-quote, and ampersand characters are used for quoting</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directory example 5:</a:t>
            </a:r>
            <a:endParaRPr b="0" lang="en-US" sz="27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d . -type f |</a:t>
            </a: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FS="" read -r filename ; do</a:t>
            </a: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t "$filename"</a:t>
            </a: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ne ) &gt; ../collection # WRONG</a:t>
            </a:r>
            <a:endParaRPr b="0" lang="en-US" sz="18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ong. Ok if filenames can’t include newline</a:t>
            </a:r>
            <a:endParaRPr b="0" lang="en-US" sz="2400" spc="-1" strike="noStrike">
              <a:solidFill>
                <a:srgbClr val="000000"/>
              </a:solidFill>
              <a:latin typeface="Calibri"/>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filenames can include newline, then any line-at-a-time processing of filenames fails</a:t>
            </a:r>
            <a:endParaRPr b="0" lang="en-US" sz="24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9B3C-374F-46AE-938F-DDA6E7284C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filenames: How to do it right</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fix all globs/filenames so they cannot begin with "-" when expanded</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 “./” prefix, etc., as needed</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ndle any filename byte sequen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ing tab, newline, escape, non-UTF-8</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names are sequences of bytes, </a:t>
            </a:r>
            <a:r>
              <a:rPr b="0" i="1" lang="en-US" sz="2600" spc="-1" strike="noStrike">
                <a:solidFill>
                  <a:srgbClr val="000000"/>
                </a:solidFill>
                <a:latin typeface="Calibri"/>
              </a:rPr>
              <a:t>not</a:t>
            </a:r>
            <a:r>
              <a:rPr b="0" lang="en-US" sz="2600" spc="-1" strike="noStrike">
                <a:solidFill>
                  <a:srgbClr val="000000"/>
                </a:solidFill>
                <a:latin typeface="Calibri"/>
              </a:rPr>
              <a:t> characters</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ware of </a:t>
            </a:r>
            <a:r>
              <a:rPr b="0" i="1" lang="en-US" sz="3000" spc="-1" strike="noStrike">
                <a:solidFill>
                  <a:srgbClr val="000000"/>
                </a:solidFill>
                <a:latin typeface="Calibri"/>
              </a:rPr>
              <a:t>printing</a:t>
            </a:r>
            <a:r>
              <a:rPr b="0" lang="en-US" sz="3000" spc="-1" strike="noStrike">
                <a:solidFill>
                  <a:srgbClr val="000000"/>
                </a:solidFill>
                <a:latin typeface="Calibri"/>
              </a:rPr>
              <a:t> filename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Escape” control character may control other thing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line/tab/space may separate surprisingly</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n-UTF-8: Unix-like don’t guarantee printability</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lt;” and “&amp;” if output to HTML/XML</a:t>
            </a:r>
            <a:endParaRPr b="0" lang="en-US" sz="2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7A78-693F-4759-B0F3-9225A9A31F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ect glob use #1</a:t>
            </a:r>
            <a:br>
              <a:rPr sz="4400"/>
            </a:br>
            <a:r>
              <a:rPr b="0" lang="en-US" sz="4400" spc="-1" strike="noStrike">
                <a:solidFill>
                  <a:srgbClr val="000000"/>
                </a:solidFill>
                <a:latin typeface="Calibri"/>
              </a:rPr>
              <a:t>(one directory)</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Prefix glob (do this in any language) with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heck if file exists (more important in shell)</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or file in ./* ; do        # Use "./*", NEVE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 -e "$file" ] ; then  # Prevent empty match</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MMAND ... "$fi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i</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one</a:t>
            </a:r>
            <a:endParaRPr b="0" lang="en-US" sz="20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8EC7-EAFE-4004-A45A-8C21A1E928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ect find use</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ick ways to use find:</a:t>
            </a:r>
            <a:endParaRPr b="0" lang="en-US" sz="3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ind ... -exec COMMAND... {} \;</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ind ... -exec COMMAND... {} \+</a:t>
            </a:r>
            <a:endParaRPr b="0" lang="en-US" sz="2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nstandard but common find/xargs extensions:</a:t>
            </a:r>
            <a:endParaRPr b="0" lang="en-US" sz="3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ind . -print0 | xargs -0 COMMAND</a:t>
            </a:r>
            <a:endParaRPr b="0" lang="en-US" sz="2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nstandard extensions to find/shell (bash ok):</a:t>
            </a:r>
            <a:endParaRPr b="0" lang="en-US" sz="30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 . -print0 |</a:t>
            </a:r>
            <a:endParaRPr b="0" lang="en-US" sz="18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hile IFS="" read -r -d "" file ; do ...</a:t>
            </a:r>
            <a:endParaRPr b="0" lang="en-US" sz="18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MAND "$file" # Use quoted "$file", not $file</a:t>
            </a:r>
            <a:endParaRPr b="0" lang="en-US" sz="1800" spc="-1" strike="noStrike">
              <a:solidFill>
                <a:srgbClr val="000000"/>
              </a:solidFill>
              <a:latin typeface="Calibri"/>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ne</a:t>
            </a:r>
            <a:endParaRPr b="0" lang="en-US" sz="18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1AA9-40BF-48C4-BB17-07C4B65C45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walking in shell – a simpler alternative, but with a caveat</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IFS doesn’t include space (per above), and filenames </a:t>
            </a:r>
            <a:r>
              <a:rPr b="0" i="1" lang="en-US" sz="3000" spc="-1" strike="noStrike">
                <a:solidFill>
                  <a:srgbClr val="000000"/>
                </a:solidFill>
                <a:latin typeface="Calibri"/>
              </a:rPr>
              <a:t>cannot</a:t>
            </a:r>
            <a:r>
              <a:rPr b="0" lang="en-US" sz="3000" spc="-1" strike="noStrike">
                <a:solidFill>
                  <a:srgbClr val="000000"/>
                </a:solidFill>
                <a:latin typeface="Calibri"/>
              </a:rPr>
              <a:t> include tab/newli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n shell patterns like this work just fine:</a:t>
            </a:r>
            <a:endParaRPr b="0" lang="en-US" sz="3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 –f # Need so “*” in filenames not expanded</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or file in $(find .) ; do</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MMAND "$file"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ne</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r – but only if you can guarantee i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ernative – try, &amp; skip files with control chars:</a:t>
            </a:r>
            <a:endParaRPr b="0" lang="en-US" sz="3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ntrolchars="$(printf '*[\001-\037\177]*')"</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 -f</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or file in $(find . ! –name "$controlchars"')</a:t>
            </a:r>
            <a:endParaRPr b="0" lang="en-US" sz="20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791C-612E-4CCD-8138-CFA49A60E9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formation on</a:t>
            </a:r>
            <a:br>
              <a:rPr sz="4400"/>
            </a:br>
            <a:r>
              <a:rPr b="0" lang="en-US" sz="4400" spc="-1" strike="noStrike">
                <a:solidFill>
                  <a:srgbClr val="000000"/>
                </a:solidFill>
                <a:latin typeface="Calibri"/>
              </a:rPr>
              <a:t>Unix-like pathname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ilenames and Pathnames in Shell: How to do it correctly”</a:t>
            </a:r>
            <a:br>
              <a:rPr sz="3200"/>
            </a:br>
            <a:r>
              <a:rPr b="0" lang="en-US" sz="2000" spc="-1" strike="noStrike" u="sng">
                <a:solidFill>
                  <a:srgbClr val="002060"/>
                </a:solidFill>
                <a:uFillTx/>
                <a:latin typeface="Calibri"/>
                <a:hlinkClick r:id="rId1"/>
              </a:rPr>
              <a:t>http://www.dwheeler.com/essays/filenames-in-shell.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ixing Unix/Linux/POSIX Filenames: Control Characters (such as Newline), Leading Dashes, and Other Problems”</a:t>
            </a:r>
            <a:br>
              <a:rPr sz="3200"/>
            </a:br>
            <a:r>
              <a:rPr b="0" lang="en-US" sz="2000" spc="-1" strike="noStrike" u="sng">
                <a:solidFill>
                  <a:srgbClr val="002060"/>
                </a:solidFill>
                <a:uFillTx/>
                <a:latin typeface="Calibri"/>
                <a:hlinkClick r:id="rId2"/>
              </a:rPr>
              <a:t>http://www.dwheeler.com/essays/fixing-unix-linux-filenames.html</a:t>
            </a:r>
            <a:endParaRPr b="0" lang="en-US" sz="20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5FEF-BF2E-43F6-B24C-E31AB5468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dows-specific file content problems</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ows Binary vs. Text file semantic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ext” often requires extra translations on input &amp; output</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ndows text files use the CP/M line-ending convention CRLF</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st other systems/languages use 1-char line-ending (LF)</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es, there are rare alternatives (IBM NEL, pre-MacOS-X CR)</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lead to misinterpretation or data corruption</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f translates when it shouldn’t, or doesn’t when it should</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G., \n in C/C++/Java often has to be converted back &amp; forth</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acter encoding</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nonstandard Windows encodings (e.g., 1252, etc.)</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files use a UTF-16-style encoding (byte ord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essing common in Windows apps… yet can easily go wrong</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y programs use Win32 charset detection function IsTextUnicode</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specially bad pre-Vista (“Bush hid the facts” or “this app can break”)</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recent tweaks make less likely, but fundamental problem still there</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lead to mojibake (aka “character salad”)/misinterpretation</a:t>
            </a:r>
            <a:endParaRPr b="0" lang="en-US" sz="18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88F1-34A1-4159-808A-83201C64CC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out to logging/debugging systems</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entralize all logging/debugging, use consistently</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plifies analysis (all data in one place)</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es change/reconfiguration</a:t>
            </a:r>
            <a:endParaRPr b="0" lang="en-US" sz="22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g </a:t>
            </a:r>
            <a:r>
              <a:rPr b="0" i="1" lang="en-US" sz="2500" spc="-1" strike="noStrike">
                <a:solidFill>
                  <a:srgbClr val="000000"/>
                </a:solidFill>
                <a:latin typeface="Calibri"/>
              </a:rPr>
              <a:t>instead</a:t>
            </a:r>
            <a:r>
              <a:rPr b="0" lang="en-US" sz="2500" spc="-1" strike="noStrike">
                <a:solidFill>
                  <a:srgbClr val="000000"/>
                </a:solidFill>
                <a:latin typeface="Calibri"/>
              </a:rPr>
              <a:t> of revealing problem details to users</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k to say there’s a problem, but don’t say too much</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tackers love it when you give them detailed data!</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rd important successes &amp; failures</a:t>
            </a:r>
            <a:endParaRPr b="0" lang="en-US" sz="22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y to reuse existing log systems</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code, easier to integrate, etc.</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isting ones: log4j, java.util.logging, syslog,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loyments typically want to centralize logs so they can easily combine data from multiple sources,  change how &amp; how much to log, where it’s stored, send to separate protected system, etc.</a:t>
            </a:r>
            <a:endParaRPr b="0" lang="en-US" sz="22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0178-57C7-44E9-9D52-2F507EAE1F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 careful about what other resources your program trus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trust… and how much?</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send to them (output to them)?</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Read</a:t>
            </a:r>
            <a:r>
              <a:rPr b="0" lang="en-US" sz="2600" spc="-1" strike="noStrike">
                <a:solidFill>
                  <a:srgbClr val="000000"/>
                </a:solidFill>
                <a:latin typeface="Calibri"/>
              </a:rPr>
              <a:t> the documentation – what’s allowed/suppor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de/filter as necessary</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do you send data?</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ernatives?  Encrypted channels?</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accept back (input from them)?</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much do you trust it?  Maybe check it!</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do you accept it back, and what happens if it takes too long?</a:t>
            </a:r>
            <a:endParaRPr b="0" lang="en-US" sz="30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ACE3-3107-4683-BCE2-D1A7D6B129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log</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only useful if important events are recor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all important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ize messages so can configure what gets logged</a:t>
            </a: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2EFA-1E1E-460C-B7FF-CB76F348BB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must roll your own logging/debugging system</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ord date/time &amp; sour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rce = machine &amp;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second accuracy very helpful</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g(category, mess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 configuration of:</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to actually record (which categor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to send it (file, remote system, etc.)</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to do on “log full” (Throw away old? New? Stop runn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scape messages</a:t>
            </a:r>
            <a:endParaRPr b="0" lang="en-US" sz="3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744B-D6B9-4D92-90D9-3088EF5C1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debug entries can become security vulnerabilities</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destined for logs may include untrusted user dat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ing debugging systems – which </a:t>
            </a:r>
            <a:r>
              <a:rPr b="0" i="1" lang="en-US" sz="2400" spc="-1" strike="noStrike">
                <a:solidFill>
                  <a:srgbClr val="000000"/>
                </a:solidFill>
                <a:latin typeface="Calibri"/>
              </a:rPr>
              <a:t>will</a:t>
            </a:r>
            <a:r>
              <a:rPr b="0" lang="en-US" sz="2400" spc="-1" strike="noStrike">
                <a:solidFill>
                  <a:srgbClr val="000000"/>
                </a:solidFill>
                <a:latin typeface="Calibri"/>
              </a:rPr>
              <a:t> be used, since operational systems sometimes have problem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ackers may intentionally create data that will create problems later, e.g.:</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sh/take over logging system</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ge log entri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tack on later retrieval</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store ASCII text</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at case, encode all nonprintable chars (esp. control chars) so they’re something else, e.g., URL-encode or \ddd</a:t>
            </a:r>
            <a:endParaRPr b="0" lang="en-US" sz="24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210A-DD01-49A9-80B1-BD5B898C7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forging example (1)</a:t>
            </a:r>
            <a:endParaRPr b="0" lang="en-US" sz="4400" spc="-1" strike="noStrike">
              <a:solidFill>
                <a:srgbClr val="000000"/>
              </a:solidFill>
              <a:latin typeface="Calibri"/>
            </a:endParaRPr>
          </a:p>
        </p:txBody>
      </p:sp>
      <p:sp>
        <p:nvSpPr>
          <p:cNvPr id="180" name=""/>
          <p:cNvSpPr txBox="1"/>
          <p:nvPr/>
        </p:nvSpPr>
        <p:spPr>
          <a:xfrm>
            <a:off x="457200" y="3832200"/>
            <a:ext cx="8229600" cy="2392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user submit “val” value of “twenty-one”, then this entry is logged:</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FO: Failed to parse val=twenty-one</a:t>
            </a:r>
            <a:endParaRPr b="0" lang="en-US" sz="20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01CA-6E28-461E-BC9B-A731D42215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TextBox 4"/>
          <p:cNvSpPr/>
          <p:nvPr/>
        </p:nvSpPr>
        <p:spPr>
          <a:xfrm>
            <a:off x="838080" y="152388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Do not do th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val = request.getParameter("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value = Integer.parseInt(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tch (NumberFormatExce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g.info("Failed to parse val = " + 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 forging example (2)</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if attacker submits “val” value of:</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wenty-one%0a%0aINFO:+User+logged+out%3dbadguy</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the log will falsely record:</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FO: Failed to parse val=twenty-o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FO: User logged out=badguy</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y fooling later log view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guy “couldn’t” have done later 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it appear things okay or confuse ca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me someone else</a:t>
            </a:r>
            <a:endParaRPr b="0" lang="en-US" sz="28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79C5-6601-4691-9850-2BEB1996EE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 log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 r/w log access by untrusted u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s give away a lot,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you’re looking at.. and what you ar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include sensitive da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s useful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bugging probl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of attack</a:t>
            </a:r>
            <a:endParaRPr b="0" lang="en-US" sz="28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BA89-EC90-4030-A40F-FBD67B497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a:t>
            </a:r>
            <a:r>
              <a:rPr b="0" i="1" lang="en-US" sz="4400" spc="-1" strike="noStrike">
                <a:solidFill>
                  <a:srgbClr val="000000"/>
                </a:solidFill>
                <a:latin typeface="Calibri"/>
              </a:rPr>
              <a:t>not</a:t>
            </a:r>
            <a:r>
              <a:rPr b="0" lang="en-US" sz="4400" spc="-1" strike="noStrike">
                <a:solidFill>
                  <a:srgbClr val="000000"/>
                </a:solidFill>
                <a:latin typeface="Calibri"/>
              </a:rPr>
              <a:t> include passwords &amp; other sensitive data in log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gs should normally be private, bu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imes logs will be revealed to oth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ipient or recipient’s later use may be unauthoriz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don’t include passwords &amp; very sensitive data in lo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ware of including data if might include password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URLs don’t include password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must include, log encrypted data (or use salted hash)</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 IEEE log data breach</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9,979 usernames + plaintext (!) password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ly available on their FTP server for at least one month prior to discovery 2012-09-18</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info: http://ieeelog.com/</a:t>
            </a:r>
            <a:endParaRPr b="0" lang="en-US" sz="22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FF37-A385-4346-8116-D3EA018397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 attack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displays simulate long-gone conso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SCAPE + codes can change color, erase screen, sometimes even send a screen content ba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Merely </a:t>
            </a:r>
            <a:r>
              <a:rPr b="0" i="1" lang="en-US" sz="2600" spc="-1" strike="noStrike">
                <a:solidFill>
                  <a:srgbClr val="000000"/>
                </a:solidFill>
                <a:latin typeface="Calibri"/>
              </a:rPr>
              <a:t>displaying</a:t>
            </a:r>
            <a:r>
              <a:rPr b="0" lang="en-US" sz="2600" spc="-1" strike="noStrike">
                <a:solidFill>
                  <a:srgbClr val="000000"/>
                </a:solidFill>
                <a:latin typeface="Calibri"/>
              </a:rPr>
              <a:t> a filename or file content can cause command execu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ystems store info in HTML/XM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include Javascript, etc., that is executed on display</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encoding data that users/admins might directly display later</a:t>
            </a:r>
            <a:endParaRPr b="0" lang="en-US" sz="30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4735-CCA0-49D4-AC60-1795B005A4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Only Interfaces Intended for Programmer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unwise to invoke a program intended for human interaction (text or GUI)</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s for humans are intentionally rich &amp; often difficult to completely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have “escape hatches” to unintended fun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active programs often try to intuit the “most likely” meaning</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not be what you were expecting</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ker may find a way to exploit this</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there’s a different program/API for other programs’ use; use that instead</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don’t invoke ed/vi/emacs for text processing, use sed/awk/per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ilarly, provide an API/programmer interface if sensibl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haps have GUI that then invokes API (good approach anyway)</a:t>
            </a:r>
            <a:endParaRPr b="0" lang="en-US" sz="2000" spc="-1" strike="noStrike">
              <a:solidFill>
                <a:srgbClr val="000000"/>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1DE7-CA82-4306-B9BE-8E7132E02F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 All System Call Return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every system call that can return an error cond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arly all system calls require limited system resources, and users can often affect resources in a variety of wa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error cannot be handled gracefully, then fail safe</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6032-8407-4C5E-BDBF-9495BF4C52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only safe library routin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t>
            </a:r>
            <a:r>
              <a:rPr b="0" i="1" lang="en-US" sz="2200" spc="-1" strike="noStrike">
                <a:solidFill>
                  <a:srgbClr val="000000"/>
                </a:solidFill>
                <a:latin typeface="Calibri"/>
              </a:rPr>
              <a:t>want</a:t>
            </a:r>
            <a:r>
              <a:rPr b="0" lang="en-US" sz="2200" spc="-1" strike="noStrike">
                <a:solidFill>
                  <a:srgbClr val="000000"/>
                </a:solidFill>
                <a:latin typeface="Calibri"/>
              </a:rPr>
              <a:t> to reuse librari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heir specifications may not guarantee that they’re sec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ir specification may even guarantee they’re </a:t>
            </a:r>
            <a:r>
              <a:rPr b="0" i="1" lang="en-US" sz="2000" spc="-1" strike="noStrike">
                <a:solidFill>
                  <a:srgbClr val="000000"/>
                </a:solidFill>
                <a:latin typeface="Calibri"/>
              </a:rPr>
              <a:t>insec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ation may be insecure on your platform/environmen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viously, prefer libraries that guarantee what you w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imes you can wrap a routine to do what you ne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re possible, test if it provides capabilities you need for securit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test in compilation, installation, and/or start-u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ay sometimes need to re-implement a library if it’s insecu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can’t be sure, re-impl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at’s a pain, but it is your </a:t>
            </a:r>
            <a:r>
              <a:rPr b="0" i="1" lang="en-US" sz="2000" spc="-1" strike="noStrike">
                <a:solidFill>
                  <a:srgbClr val="000000"/>
                </a:solidFill>
                <a:latin typeface="Calibri"/>
              </a:rPr>
              <a:t>users</a:t>
            </a:r>
            <a:r>
              <a:rPr b="0" lang="en-US" sz="2000" spc="-1" strike="noStrike">
                <a:solidFill>
                  <a:srgbClr val="000000"/>
                </a:solidFill>
                <a:latin typeface="Calibri"/>
              </a:rPr>
              <a:t> who are hurt if you choose an insecure libra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You</a:t>
            </a:r>
            <a:r>
              <a:rPr b="0" lang="en-US" sz="2000" spc="-1" strike="noStrike">
                <a:solidFill>
                  <a:srgbClr val="000000"/>
                </a:solidFill>
                <a:latin typeface="Calibri"/>
              </a:rPr>
              <a:t> are responsible for the libraries/infrastructure you choose to use</a:t>
            </a:r>
            <a:endParaRPr b="0" lang="en-US" sz="2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68C0-B63C-4D40-95C0-F601FFE495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er Web Bugs When Retrieving Embedded Conten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data formats  (e.g., HTML) can embed references to content that is automatically retrieved when the data is viewed (transclus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out waiting for user sele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vacy issue –  enables “web bug” so others can obtain information about a reader without his knowledg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 web bu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eference intentionally inserted into a document and used by the content author to track who, where, and how often a document is read (e.g., 1x1 pixel “image” loaded from somewhere els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see how a “bugged” document is passed from one person to another or from one organization to anoth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ily an issue with file format design (can’t undo HTM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r users value their privacy, you probably will want to limit the automatic downloading of included files (e.g., from other sites)</a:t>
            </a:r>
            <a:endParaRPr b="0" lang="en-US" sz="22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CC15-F138-4B2B-AC55-DB2225AF00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de Sensitive Information (1)</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de sensitive information (e.g., private, personally-identifying information, password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ransit (input &amp; outpu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rest (stor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transit – web-based application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se https: (HTTP on top of SSL or TL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llow GET to submit information – encoded in Request-URI, which is often logg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ncrypt any storag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n’t help if attacker breaks into the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 defend against someone who gets storage device without encryption key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ncrypt passwords (with salted hashes – explain later)</a:t>
            </a:r>
            <a:endParaRPr b="0" lang="en-US" sz="25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824F-87CF-471D-98DD-1C253C3A56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de Sensitive Information (2)</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send it, if you don’t hav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create special “local” ids when sending to other si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late ba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it hard for external sites to reveal info about your users, data, etc.</a:t>
            </a:r>
            <a:endParaRPr b="0" lang="en-US" sz="28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F144-5660-47A5-ACE3-2DE99D420D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 information when it returns</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Reuse input filtering concepts from earlier…</a:t>
            </a:r>
            <a:r>
              <a:rPr b="0" lang="en-US" sz="3000" spc="-1" strike="noStrike">
                <a:solidFill>
                  <a:srgbClr val="000000"/>
                </a:solidFill>
                <a:latin typeface="Calibri"/>
              </a:rPr>
              <a:t> values from libraries are yet more inp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number: Is it within some plausible ran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tring: Does it match a whitelist filt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complex (e.g., file/data typ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t one of the permitted file/data type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n image (e.g., tile from geometry serv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ight/width in range? Is it really an image format?</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it takes too long to respond, consider alternativ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be helpful in countering defects in components, even if it is not security issue</a:t>
            </a:r>
            <a:endParaRPr b="0" lang="en-US" sz="30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1C64-9230-4E59-BBA0-DCB9AE33A6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ractice, must depend on other 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ies, OS, DBMS, etc.</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areful about how you call out to th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characters in particular can cause troubl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QL, command shell, filenames, log/debug entr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allow anything to be sent out unless you’ve checked to ensure it’s okay (whitelis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areful about what you accept back</a:t>
            </a:r>
            <a:endParaRPr b="0" lang="en-US" sz="3200" spc="-1" strike="noStrike">
              <a:solidFill>
                <a:srgbClr val="000000"/>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D79A-1AB0-4EFD-8CA3-E5DB903D6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ased under CC BY-SA 3.0</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sentation is released under the Creative Commons Attribution-ShareAlike 3.0 Unported (CC BY-SA 3.0) licen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fre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hare — to copy, distribute and transmi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mix — to adapt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commercial use of the work</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following condi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ribution — You must attribute the work in the manner specified by the author or licensor (but not in any way that suggests that they endorse you or your use of the 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 Alike — If you alter, transform, or build upon this work, you may distribute the resulting work only under the same or similar license to this on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ditions can be waived by permission from the copyright holde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wheeler at dwheeler dot co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 at: http://creativecommons.org/licenses/by-sa/3.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ibute me as “David A. Wheeler”</a:t>
            </a:r>
            <a:endParaRPr b="0" lang="en-US" sz="20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57B5-5EF4-4F7E-B708-5996483518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mit call-outs to valid valu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any call out to another program only permits valid and expected values for every paramet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ing libraries, daemons, remote server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s more difficult than it sound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library calls or commands call other components in potentially surprising way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n’t always clearly document exactly what’s saf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ult: Need to be conservativ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problem: Metacharacters</a:t>
            </a:r>
            <a:endParaRPr b="0" lang="en-US" sz="26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5BF8-B942-4572-9120-4951048481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character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characters = characters in an input that are not interpreted as data</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characters instead control how the </a:t>
            </a:r>
            <a:r>
              <a:rPr b="0" i="1" lang="en-US" sz="2200" spc="-1" strike="noStrike">
                <a:solidFill>
                  <a:srgbClr val="000000"/>
                </a:solidFill>
                <a:latin typeface="Calibri"/>
              </a:rPr>
              <a:t>other</a:t>
            </a:r>
            <a:r>
              <a:rPr b="0" lang="en-US" sz="2200" spc="-1" strike="noStrike">
                <a:solidFill>
                  <a:srgbClr val="000000"/>
                </a:solidFill>
                <a:latin typeface="Calibri"/>
              </a:rPr>
              <a:t> characters are interprete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commands, delimiters of data, et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there's a language specification, it has metacharact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QL: the single-quote ' can begin/end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IX shell: $ can begin a parameter reference, e.g., $HOM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your program allows attackers to insert such metacharacters, don’t pass them on unescaped</a:t>
            </a:r>
            <a:endParaRPr b="0" lang="en-US" sz="25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D4D0-1B32-427B-A66F-EE73FCAF1D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 Getting Connected in Java</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java.sq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ExecuteSqlQuery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ublic static void main(String[] args)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In real code, use try {…} catch () … to deal with database connection failure, etc.</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ring connectionURL = "jdbc:mysql://localhost:3306/mydatabas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Load JDBC driver for MySQL (for exampl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lass.forName("com.mysql.jdbc.Driver").newInstanc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Connect given connectionURL, username, passwor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nection connection = DriverManager.getConnection(connectionUR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oot", "root");  // What’s wrong with this password handling approach?</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tement statement = connection.createStatemen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sultSet rs = null;</a:t>
            </a:r>
            <a:endParaRPr b="0" lang="en-US" sz="1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714A-951D-4C64-A28F-362BE07381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QL – How to do it wrong</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User input search_lastnam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tring QueryString = "select * from authors where lastname = ' "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earch_lastname + " ' "; // data surrounded by single-quot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s = statement.executeQuery(QueryString);</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hile (rs.nex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ystem.out.println(rs.getString(2) + "\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 eventually close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s.clo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tatement.clo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nnection.clo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B209-532C-4B97-92DA-4EC39EC3D8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74" name="Straight Arrow Connector 8"/>
          <p:cNvCxnSpPr/>
          <p:nvPr/>
        </p:nvCxnSpPr>
        <p:spPr>
          <a:xfrm flipV="1">
            <a:off x="6933960" y="2742480"/>
            <a:ext cx="1080" cy="1524600"/>
          </a:xfrm>
          <a:prstGeom prst="straightConnector1">
            <a:avLst/>
          </a:prstGeom>
          <a:ln w="50760">
            <a:solidFill>
              <a:srgbClr val="000000"/>
            </a:solidFill>
            <a:miter/>
            <a:tailEnd len="med" type="arrow" w="med"/>
          </a:ln>
        </p:spPr>
      </p:cxnSp>
      <p:cxnSp>
        <p:nvCxnSpPr>
          <p:cNvPr id="75" name="Straight Arrow Connector 10"/>
          <p:cNvCxnSpPr/>
          <p:nvPr/>
        </p:nvCxnSpPr>
        <p:spPr>
          <a:xfrm flipH="1" flipV="1">
            <a:off x="5790960" y="2971080"/>
            <a:ext cx="762480" cy="1143720"/>
          </a:xfrm>
          <a:prstGeom prst="straightConnector1">
            <a:avLst/>
          </a:prstGeom>
          <a:ln w="50760">
            <a:solidFill>
              <a:srgbClr val="000000"/>
            </a:solidFill>
            <a:miter/>
            <a:tailEnd len="med" type="arrow" w="med"/>
          </a:ln>
        </p:spPr>
      </p:cxnSp>
      <p:sp>
        <p:nvSpPr>
          <p:cNvPr id="76" name="Cloud 6"/>
          <p:cNvSpPr/>
          <p:nvPr/>
        </p:nvSpPr>
        <p:spPr>
          <a:xfrm>
            <a:off x="3429000" y="3886200"/>
            <a:ext cx="5334120" cy="281952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a:t>
            </a:r>
            <a:r>
              <a:rPr b="0" i="1" lang="en-US" sz="2200" spc="-1" strike="noStrike">
                <a:solidFill>
                  <a:srgbClr val="000000"/>
                </a:solidFill>
                <a:latin typeface="Calibri"/>
              </a:rPr>
              <a:t>string concatenation</a:t>
            </a:r>
            <a:r>
              <a:rPr b="0" lang="en-US" sz="2200" spc="-1" strike="noStrike">
                <a:solidFill>
                  <a:srgbClr val="000000"/>
                </a:solidFill>
                <a:latin typeface="Calibri"/>
              </a:rPr>
              <a:t>, followed by an </a:t>
            </a:r>
            <a:r>
              <a:rPr b="0" i="1" lang="en-US" sz="2200" spc="-1" strike="noStrike">
                <a:solidFill>
                  <a:srgbClr val="000000"/>
                </a:solidFill>
                <a:latin typeface="Calibri"/>
              </a:rPr>
              <a:t>execution</a:t>
            </a:r>
            <a:r>
              <a:rPr b="0" lang="en-US" sz="2200" spc="-1" strike="noStrike">
                <a:solidFill>
                  <a:srgbClr val="000000"/>
                </a:solidFill>
                <a:latin typeface="Calibri"/>
              </a:rPr>
              <a:t>, takes the untrusted user input data &amp; passes it directly to an interpre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Bad ide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2:14:44Z</dcterms:created>
  <dc:creator>David A. Wheeler</dc:creator>
  <dc:description/>
  <cp:keywords>input validation regulation expressions attack surface</cp:keywords>
  <dc:language>en-US</dc:language>
  <cp:lastModifiedBy>David A. Wheeler</cp:lastModifiedBy>
  <dcterms:modified xsi:type="dcterms:W3CDTF">2014-09-24T14:06:42Z</dcterms:modified>
  <cp:revision>451</cp:revision>
  <dc:subject>Secure Software Design &amp; Programming - Input Validation</dc:subject>
  <dc:title>SWE 781 / ISA 681 Secure Software Design &amp; Programming</dc:title>
</cp:coreProperties>
</file>